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6E17-2661-4FD8-A0B7-9ABACBB004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62FE-E2D8-4285-A73D-7F42FB8D0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kground to this CPG development is as follows: …. Worldwide, we know that the prevalence of CKD and ESRD is increasing.  In Malaysian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4D63-0AEE-44A0-AD65-B50F393E4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C546-8DE5-4D18-A582-063A4671F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F880-82A0-4620-89C9-501F13996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B5BE-E4AC-485F-A68D-336398C35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2956-D88C-409E-B9A9-72EC7BACB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F64C-C63F-4F15-804F-D31386642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212A-FCE7-442A-B360-33CD1C969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004D-CDB5-4157-BAF5-AB048F032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A06E-B0D9-43B1-A15D-1F5BEF13B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son for using a range of target BP was twofold: 1. to encourage doctors to actually achieve target levels  rather than stop efforts to  optinise BP when approaching an absolute  target level 2. to set a lower limit/thershold for BP lowering in the light of evidence that there may be a level below which there was no clear benefit to patients and/or more negative outco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B12C-274E-4163-B2F8-E390D167F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00AD-86F8-488D-894D-F4C6A0E63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AB6D-C85E-493D-8C24-56750F8F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FB29-01A1-4878-B942-87D47410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E5F8D-F3B2-48A0-BCD4-DE11DC9E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D3015-576F-45E5-9DD2-E63A46BE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90805-DFB5-4DA4-94C7-FD59F74C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30381-2D05-4291-9B46-4D385995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17D52-54B9-4AD0-9409-8BE71055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40B74-4016-4052-9F46-08653B0B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BF8B1-178F-40AF-BF27-53FF0D69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4A2F4-37C9-4A47-8275-73A9B8C8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DC201-1FD9-497F-84E2-8A401E38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FF18F-4F34-40C3-AD25-5F6B19F0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18B8-022A-4B0F-9C95-0F294717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D1C7B-783B-497A-9D9E-BF22867B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50165-5329-4E57-8185-8997FE89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D3DD7-18D5-4A0E-8641-32A22AAD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8A379-0F30-4D9E-82CC-411190F4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E9663-A941-4113-8B7B-38F04B42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650BD-7A39-4ADE-B0B3-3F2C7132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84C07-AC29-4226-9856-A171EBF0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12E6B-7F48-4E35-B34C-71C29682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5C55E-21D6-46E7-B054-0E3B1D64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632B6-30FE-4C87-9A0E-F776E36E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7788-B34F-4FA9-BD9D-717C97B2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C98C0-307C-4A21-B909-BEF91512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33DE2-A6F4-4AE8-B657-4BD31AAA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A6786-9712-4627-A525-077947F2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0A6F8-0453-4CC1-99DD-E8525BB9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5A175-05F4-4BF0-8E5F-85EE999C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C9A36-7808-4040-B01A-FDC9FD22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7C55B-D0EF-4BC3-ABD0-ABCFB3A4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5AAE5-2182-4BC0-A2C0-7B04B10A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3CAB4-8F48-4079-B30B-227FF0D5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EA80F-598F-4B68-9839-DAFCF50F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82DD-B06F-4678-BE5A-060874BA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C9ECB-7EAE-4166-90D2-BDB220C0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D6E63-FE98-4DB9-96B9-B5B0FC86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87DBE-4168-46FA-AB62-56B1C988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C2A20-CA1A-4BED-B5AD-265575CD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16561-4140-4DAD-BF52-83FC3289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10655-BADF-421E-8FBD-6ED866C6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96A7C-7E1C-4456-98A8-CFA83EFF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96133-2A15-4411-98F0-41B0DB99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BC853-E2AA-4038-9C63-C61A0937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1D5D6-7867-4A33-BAA1-520F9499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7D5F-73E5-4AAA-AEDC-EBFA7DB8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C9644-50AC-4AFC-B9A8-18D857D2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CEF7D-3274-44A4-8A10-B6101BE9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871AB-62C9-431F-A371-72C48970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885AF-8D34-47F8-ADD0-61EC9233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BFAE2-6156-4CD0-A6B3-27D2D487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C330-E5DE-4974-8C76-689C60E7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B1B0-556E-417D-AB3A-9CB54B70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3C98-9DE6-489D-B571-33F061D3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8A58-7C11-47F5-9D5A-39459581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7D8F-3763-4843-B58D-7FA9B97C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F8D2-3217-43E8-B278-A9EC738D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1F2F-7973-48DE-9F54-36AA8CE8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9133-7CF8-42E4-B41E-44EA9CF9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6C26-E1C3-44EC-9554-8D8165CF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2040-C6E1-4B91-AC7C-1850119A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8B8C-FB0E-43E1-81DD-5C997474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86CE3-E307-488F-B85B-B6FAAA3D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EDB15-4083-495A-AA2B-4786F748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641BF-099F-4197-B25B-1774BE2F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0DBF3-FC01-47A5-8DC1-6F4F9DAE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225ED-AEE1-4C4E-9D6F-777CD6CF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4D30-8082-4429-A345-C6141888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6478A-4771-4091-97C3-E7018866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7868A-15D2-4D23-808E-1D340AE8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67F9B-57CC-4C83-8E98-D9BAC725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91556-1B31-49AD-AE58-ED6F453F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0B050-FB52-4CBD-8B0D-7B403A9D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947B8-C143-4274-A2D7-66F40AE0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44205-0B96-4A2F-B8ED-B4498685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4CA77-FA5C-412B-A5C3-764E78D6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CD56A-D58F-4167-BDD9-A9252DC2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22207-8F65-4136-8056-DBD583EA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4AEC-A09C-42C4-A0D4-84B325EA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7C0F5-1CF3-4653-BB53-A10DE3F8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882E3-988E-4D35-B7BA-9A5E9A1B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30D20-F76B-450F-BB72-C82CFC21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50E48-541A-4646-9DA1-51599AEC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03A3E-69EE-47D5-8413-6E813778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AD3B8-8990-4B17-98AE-3178DF38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0F56E-7566-4992-A05D-A191A458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F965E-1CD3-403A-8569-F7CF72B4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03423-D2D6-4FC5-9B0F-D7330A0DD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8C8A0-E82F-4956-BEBA-36E10687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6D8E-D627-4E61-A431-EDC09989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A5DCE-ED50-4A43-9792-B7EC6249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AFE4E-4CE1-4674-AEFB-8551F38A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70068-8106-47EA-905D-69D44CE8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09C20-4AE4-4ED0-A8E3-A6D5F33A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DAB72-6BC5-4337-A054-F0302881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6BE1B-8578-4119-B64B-2A05F6ED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0BF61-F298-4CE8-959C-7C84A0E3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2042E-C813-4615-BECB-287E1966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76203-E60F-46C2-86D5-B2259BC0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49CCE-DD21-48A6-978C-80EB5EB0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D6AB-385F-4F51-B99C-8041844B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38348-241C-4B80-9AC3-38F45B7E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021EB-28CB-4884-AF77-0624071A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BD118-2E20-43D8-88F8-D8363452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00F25-286A-455D-8983-5F6D5B53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878AF-F7EF-4DD7-98BF-21743596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3858B-78B1-40D4-9D36-9E1531BF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68803-1A71-4C0D-B5E4-87B4B95D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DF543-E408-4367-B54B-D8B115BF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AC86E-607E-404B-9806-1D45DD9A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23601-4210-4605-ADF6-CFA0710E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A108-7F5F-4E33-B157-2BFE7493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E7995-7D0F-4356-AE2D-68D561C2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C742B-D7AA-4CDF-81DF-1C449AB9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9D280-2330-4AF0-83A8-1E13DBBC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DA029-5582-4703-B11E-658AC9C7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30FDC-5F4A-401C-B46D-96EC0E3B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E2827-BF34-442C-B536-B37338EE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F93CD-CBA4-448E-8AEA-65E70F6E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4647D-F12B-404D-830A-21522771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29125-AEFC-4963-A043-B6C72AFE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830DD-EA25-45C6-8443-B861754E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63A-A61B-4520-9EC4-2EC8CE42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2CC3A-104F-42F3-AC0C-6C49C36B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67924-808C-4C01-9C5D-ECF854C2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F4BFC-5CDB-46E3-A793-3B8A61F1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F6C20-7096-47D6-82C9-2E8D97E8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487B1-E5F5-4AAC-AE13-815E9717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238BE-8F3A-4A63-B2B2-879AE6B0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A6E59-DF9F-46C0-B1D1-EA3A1B24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FB906-FBA4-4333-8453-92BEFE37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6A848-BE17-475B-8241-82C9795D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6F5DA-D78A-45E8-A6BB-781D5CAD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F928-0588-43ED-8E3D-1349A6DA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228FC-6959-4FDB-9412-F8061389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DD114-C144-48EF-B977-3E4E938D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C3E19-6DBE-4D98-903D-B2C18DA3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EFA0E-4E0F-4439-AA41-18E2041C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62043-F7F5-49AF-B6CF-73F17A48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C6C5C-DB11-4AB7-921B-31F09A73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6BB8A-9171-4A79-8F83-EF07D24F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695C6-B09C-4EE5-8825-0A01A1CA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F8591-2813-4149-95C0-7208EC24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E2D01-6D8A-4826-8EF1-DEC06995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227F33-2CDC-4C17-894C-A21CB711A596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1DADA-0FA8-476F-8B11-68C6E20AF28B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3DF1-64AE-4864-93A8-793824136A05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11DE-8A5F-4EC7-99F1-4ED830CD1680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21C5-E01F-4A3E-AA7C-EE66B3957D98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45ED-5209-4E2D-BAAE-DAF6B71E5E24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0C3A-7208-4408-AFFB-563BA2096232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41E5-387E-4A24-A682-D6D35F7181DC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93DD-6C8A-4D2C-BA14-F75809257C62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D46C-CDAD-43D8-9558-56495752ABB8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6B45-9246-4ADC-9155-893AE0B0DEE5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C39E-AA81-4646-A3BE-AA074E64129B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5DDD-15BE-4AE3-ABD2-4E65960CA506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7D91-3061-4C7F-BA50-59C6EDE7B503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7D6E-817F-47DF-920F-1A1668629538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5E01-6EF0-424C-8D4C-A0018227BB48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E19E-8FB1-4C00-8099-F500D39D2E98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4655-2293-4D8C-AE02-6669E5C110D4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B8E1-DCE0-43CA-A83F-EDB12A98A593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84CE-2128-4A04-90FF-2294316E5FB6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80FB-F6A2-4D34-9478-4E7176689BC9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FC39-BD2A-4A2B-952E-76E488B24FB6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31C5-1C46-4B0E-8ACC-7FCBDE2CC40C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FDFD-84A1-4436-BA68-31941AF548A1}" type="slidenum">
              <a:rPr b="0" lang="ms-MY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osmokingsigns.com/images/signs/nosmokingstickerlarge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010280" cy="295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KEMEROSOTAN </a:t>
            </a:r>
            <a:br>
              <a:rPr sz="4800"/>
            </a:b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PENYAKIT CKD</a:t>
            </a:r>
            <a:br>
              <a:rPr sz="4800"/>
            </a:b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(</a:t>
            </a:r>
            <a:r>
              <a:rPr b="1" i="1" lang="en-MY" sz="4800" spc="-1" strike="noStrike">
                <a:solidFill>
                  <a:srgbClr val="000000"/>
                </a:solidFill>
                <a:latin typeface="Calibri Light"/>
              </a:rPr>
              <a:t>Progression of CKD</a:t>
            </a: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533520" y="5105520"/>
            <a:ext cx="79992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4068"/>
                </a:solidFill>
                <a:latin typeface="Calibri Light"/>
              </a:rPr>
              <a:t>MODUL LATIHAN PARAMEDIK UNTUK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44068"/>
                </a:solidFill>
                <a:latin typeface="Calibri Light"/>
              </a:rPr>
              <a:t>CLINICAL PRACTICE GUIDELINES (CPG)</a:t>
            </a:r>
            <a:br>
              <a:rPr sz="2000"/>
            </a:br>
            <a:r>
              <a:rPr b="1" lang="en-US" sz="2000" spc="-1" strike="noStrike">
                <a:solidFill>
                  <a:srgbClr val="344068"/>
                </a:solidFill>
                <a:latin typeface="Calibri Light"/>
              </a:rPr>
              <a:t>RAWATAN PENYAKIT GINJAL KRONIK (</a:t>
            </a:r>
            <a:r>
              <a:rPr b="1" i="1" lang="en-US" sz="2000" spc="-1" strike="noStrike">
                <a:solidFill>
                  <a:srgbClr val="344068"/>
                </a:solidFill>
                <a:latin typeface="Calibri Light"/>
              </a:rPr>
              <a:t>CKD</a:t>
            </a:r>
            <a:r>
              <a:rPr b="1" lang="en-US" sz="2000" spc="-1" strike="noStrike">
                <a:solidFill>
                  <a:srgbClr val="344068"/>
                </a:solidFill>
                <a:latin typeface="Calibri Light"/>
              </a:rPr>
              <a:t>) DEWAS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3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E15C-C4E7-47CC-980D-361B49083F86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3" descr=""/>
          <p:cNvPicPr/>
          <p:nvPr/>
        </p:nvPicPr>
        <p:blipFill>
          <a:blip r:embed="rId1"/>
          <a:stretch/>
        </p:blipFill>
        <p:spPr>
          <a:xfrm>
            <a:off x="7400880" y="85680"/>
            <a:ext cx="164628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3"/>
          <p:cNvSpPr/>
          <p:nvPr/>
        </p:nvSpPr>
        <p:spPr>
          <a:xfrm>
            <a:off x="5423400" y="838080"/>
            <a:ext cx="2907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Ei/ARB init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3333600" y="1995480"/>
            <a:ext cx="2722680" cy="8254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eck  Cr and K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ithin 7-14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349560" y="3075120"/>
            <a:ext cx="25506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83c6"/>
                </a:solidFill>
                <a:latin typeface="Arial"/>
              </a:rPr>
              <a:t>Cr rise &lt;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83c6"/>
                </a:solidFill>
                <a:latin typeface="Arial"/>
              </a:rPr>
              <a:t>BP not ach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83c6"/>
                </a:solidFill>
                <a:latin typeface="Arial"/>
              </a:rPr>
              <a:t>No high K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5867280" y="3048120"/>
            <a:ext cx="3124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83c6"/>
                </a:solidFill>
                <a:latin typeface="Arial"/>
              </a:rPr>
              <a:t>Cr </a:t>
            </a:r>
            <a:r>
              <a:rPr b="1" i="1" lang="en-US" sz="2400" spc="-1" strike="noStrike">
                <a:solidFill>
                  <a:srgbClr val="2683c6"/>
                </a:solidFill>
                <a:latin typeface="Wingdings"/>
                <a:ea typeface="Wingdings"/>
              </a:rPr>
              <a:t></a:t>
            </a:r>
            <a:r>
              <a:rPr b="1" i="1" lang="en-US" sz="2400" spc="-1" strike="noStrike">
                <a:solidFill>
                  <a:srgbClr val="2683c6"/>
                </a:solidFill>
                <a:latin typeface="Arial"/>
              </a:rPr>
              <a:t> &gt;30% in 2/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7"/>
          <p:cNvSpPr/>
          <p:nvPr/>
        </p:nvSpPr>
        <p:spPr>
          <a:xfrm>
            <a:off x="6705720" y="4089240"/>
            <a:ext cx="2016000" cy="45972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op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6680160" y="4994280"/>
            <a:ext cx="2078280" cy="8254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sses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lateral 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712080" y="5019840"/>
            <a:ext cx="1703160" cy="8254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Ei d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0"/>
          <p:cNvSpPr/>
          <p:nvPr/>
        </p:nvSpPr>
        <p:spPr>
          <a:xfrm flipH="1">
            <a:off x="5186520" y="1353960"/>
            <a:ext cx="863280" cy="57636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1"/>
          <p:cNvSpPr/>
          <p:nvPr/>
        </p:nvSpPr>
        <p:spPr>
          <a:xfrm>
            <a:off x="1582560" y="4307040"/>
            <a:ext cx="0" cy="64764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2"/>
          <p:cNvSpPr/>
          <p:nvPr/>
        </p:nvSpPr>
        <p:spPr>
          <a:xfrm>
            <a:off x="1655640" y="2481120"/>
            <a:ext cx="0" cy="50508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3"/>
          <p:cNvSpPr/>
          <p:nvPr/>
        </p:nvSpPr>
        <p:spPr>
          <a:xfrm>
            <a:off x="7696080" y="4594320"/>
            <a:ext cx="0" cy="36036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4"/>
          <p:cNvSpPr/>
          <p:nvPr/>
        </p:nvSpPr>
        <p:spPr>
          <a:xfrm>
            <a:off x="7620120" y="3530520"/>
            <a:ext cx="0" cy="50796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5"/>
          <p:cNvSpPr/>
          <p:nvPr/>
        </p:nvSpPr>
        <p:spPr>
          <a:xfrm>
            <a:off x="1657440" y="2506680"/>
            <a:ext cx="1655640" cy="0"/>
          </a:xfrm>
          <a:prstGeom prst="line">
            <a:avLst/>
          </a:prstGeom>
          <a:ln w="76320">
            <a:solidFill>
              <a:srgbClr val="2683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6"/>
          <p:cNvSpPr/>
          <p:nvPr/>
        </p:nvSpPr>
        <p:spPr>
          <a:xfrm>
            <a:off x="6108840" y="2529000"/>
            <a:ext cx="1511280" cy="0"/>
          </a:xfrm>
          <a:prstGeom prst="line">
            <a:avLst/>
          </a:prstGeom>
          <a:ln w="76320">
            <a:solidFill>
              <a:srgbClr val="2683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7"/>
          <p:cNvSpPr/>
          <p:nvPr/>
        </p:nvSpPr>
        <p:spPr>
          <a:xfrm>
            <a:off x="3733920" y="3219480"/>
            <a:ext cx="16761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83c6"/>
                </a:solidFill>
                <a:latin typeface="Arial"/>
              </a:rPr>
              <a:t>High K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8"/>
          <p:cNvSpPr/>
          <p:nvPr/>
        </p:nvSpPr>
        <p:spPr>
          <a:xfrm>
            <a:off x="3463200" y="4156200"/>
            <a:ext cx="792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83c6"/>
                </a:solidFill>
                <a:latin typeface="Arial"/>
              </a:rPr>
              <a:t>M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9"/>
          <p:cNvSpPr/>
          <p:nvPr/>
        </p:nvSpPr>
        <p:spPr>
          <a:xfrm>
            <a:off x="4414680" y="4156200"/>
            <a:ext cx="15289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83c6"/>
                </a:solidFill>
                <a:latin typeface="Arial"/>
              </a:rPr>
              <a:t>Sev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20"/>
          <p:cNvSpPr/>
          <p:nvPr/>
        </p:nvSpPr>
        <p:spPr>
          <a:xfrm>
            <a:off x="4537080" y="2865600"/>
            <a:ext cx="0" cy="36036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21"/>
          <p:cNvSpPr/>
          <p:nvPr/>
        </p:nvSpPr>
        <p:spPr>
          <a:xfrm>
            <a:off x="3960720" y="3730680"/>
            <a:ext cx="0" cy="36036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22"/>
          <p:cNvSpPr/>
          <p:nvPr/>
        </p:nvSpPr>
        <p:spPr>
          <a:xfrm>
            <a:off x="5041800" y="3730680"/>
            <a:ext cx="0" cy="36036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23"/>
          <p:cNvSpPr/>
          <p:nvPr/>
        </p:nvSpPr>
        <p:spPr>
          <a:xfrm>
            <a:off x="6019920" y="4378320"/>
            <a:ext cx="576000" cy="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4"/>
          <p:cNvSpPr/>
          <p:nvPr/>
        </p:nvSpPr>
        <p:spPr>
          <a:xfrm>
            <a:off x="2836800" y="5019840"/>
            <a:ext cx="3483360" cy="8254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duce K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et/other manoue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5"/>
          <p:cNvSpPr/>
          <p:nvPr/>
        </p:nvSpPr>
        <p:spPr>
          <a:xfrm>
            <a:off x="3960720" y="4665600"/>
            <a:ext cx="0" cy="36036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6"/>
          <p:cNvSpPr/>
          <p:nvPr/>
        </p:nvSpPr>
        <p:spPr>
          <a:xfrm>
            <a:off x="533520" y="174600"/>
            <a:ext cx="784836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mantauan semasa memulakan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CEi/A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27"/>
          <p:cNvSpPr/>
          <p:nvPr/>
        </p:nvSpPr>
        <p:spPr>
          <a:xfrm>
            <a:off x="7620120" y="2490840"/>
            <a:ext cx="0" cy="50472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5CF0-F918-4ACC-A450-AAEEB3BF5D87}" type="slidenum">
              <a:rPr b="0" lang="ms-MY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awalan pengambilan protein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447560"/>
            <a:ext cx="8153280" cy="419076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 fontScale="94000"/>
          </a:bodyPr>
          <a:p>
            <a:pPr marL="319320" indent="-2088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oleh dipertimbangkan untuk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CK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4 dan 5 - sebelum dialisis dimulakan</a:t>
            </a: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319320" indent="-2088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319320" indent="-2088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rlu mempertimbangkan kebaikan memperlahankan kemerosotan penyakit ginjal dengan risiko malnutrisi (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protein-energy malnutri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319320" indent="-208800">
              <a:lnSpc>
                <a:spcPct val="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319320" indent="-208800">
              <a:lnSpc>
                <a:spcPct val="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319320" indent="-208800">
              <a:lnSpc>
                <a:spcPct val="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6931-8C26-4F1C-A194-013F61E75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awalan hyperlipidaemia 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1447920"/>
            <a:ext cx="8153280" cy="403848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unseling untuk modifikasi gaya hidup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444600" indent="-177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makanan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44600" indent="-177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aman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44600" indent="-177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44600" indent="-177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in perlu dipertimbangkan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5FEF-156B-418E-A94B-F4DEA3A37A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457200" y="1371600"/>
            <a:ext cx="8153280" cy="495288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rokok boleh merosakkan ginjal sepertimana ia menyebabkan penyakit kardiovaskular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6512-7546-4B11-949C-837AD16140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4" descr="nosmokingstickermediu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73640" y="2895480"/>
            <a:ext cx="3187800" cy="33102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838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4000" spc="-1" strike="noStrike">
                <a:solidFill>
                  <a:srgbClr val="0d0d0d"/>
                </a:solidFill>
                <a:latin typeface="Calibri"/>
              </a:rPr>
              <a:t>Berhenti merokok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838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Calibri"/>
              </a:rPr>
              <a:t>Elak penggunaan agen nefro-toksik   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371240"/>
            <a:ext cx="8153280" cy="487692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Nasihat untuk mengelakkan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574560" indent="-2347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NSAI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 termasuk Cox-2 inhibitors dan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PPI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574560" indent="-2347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bat tradisional and herba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7E0D-0A2B-4ABF-A433-798DE942FD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5" descr="PasajePaquito02-wm"/>
          <p:cNvPicPr/>
          <p:nvPr/>
        </p:nvPicPr>
        <p:blipFill>
          <a:blip r:embed="rId1"/>
          <a:stretch/>
        </p:blipFill>
        <p:spPr>
          <a:xfrm>
            <a:off x="4102200" y="2908440"/>
            <a:ext cx="434664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523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ila rujukan kepada pegawai perubatan diperlukan? 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4373-A975-4E92-8A3F-EA61EBF31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5" descr=""/>
          <p:cNvPicPr/>
          <p:nvPr/>
        </p:nvPicPr>
        <p:blipFill>
          <a:blip r:embed="rId1"/>
          <a:stretch/>
        </p:blipFill>
        <p:spPr>
          <a:xfrm>
            <a:off x="2765520" y="2552760"/>
            <a:ext cx="3657600" cy="260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dikasi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7200" y="1294920"/>
            <a:ext cx="8153280" cy="48006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11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ersistent proteinuria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11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gsi ginjal yang abnormal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GFR/serum creatin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11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kanan darah yang tidak terkawal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11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s diabetes yang tidak terkawal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11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s lipid yang tidak terkawal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11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nita deng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K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ang merancang untuk hamil (Kaunseling prakehamilan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11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ika ada keraguan…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3A84-1BF8-43D6-AF3F-24A054B5E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itle 1"/>
          <p:cNvSpPr/>
          <p:nvPr/>
        </p:nvSpPr>
        <p:spPr>
          <a:xfrm>
            <a:off x="457200" y="380880"/>
            <a:ext cx="8229600" cy="792360"/>
          </a:xfrm>
          <a:prstGeom prst="rect">
            <a:avLst/>
          </a:prstGeom>
          <a:solidFill>
            <a:srgbClr val="3440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MS PGothic"/>
              </a:rPr>
              <a:t>Rujukan kepada pakar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MS PGothic"/>
              </a:rPr>
              <a:t>-1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Content Placeholder 2"/>
          <p:cNvSpPr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jukan kepada pakar nefrologi atau pakar perubatan perlu dipertimbangkan jika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8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eGF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&lt;30 ml/min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8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Fungsi ginjal merosot dengan mendad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8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Proteinuria ≥1 g/hari atau protein: creatinine ratio dalam kencing (uPCR) ≥0.1 g/mmol untuk pesakit yang tiada diabet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8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Proteinuria dan haematu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2ADA-46A5-4C10-88D8-71C00F76C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5"/>
          <p:cNvSpPr/>
          <p:nvPr/>
        </p:nvSpPr>
        <p:spPr>
          <a:xfrm>
            <a:off x="4946400" y="6477120"/>
            <a:ext cx="40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laysian CPG on Management of CKD in Adults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itle 1"/>
          <p:cNvSpPr/>
          <p:nvPr/>
        </p:nvSpPr>
        <p:spPr>
          <a:xfrm>
            <a:off x="457200" y="351000"/>
            <a:ext cx="8229600" cy="792000"/>
          </a:xfrm>
          <a:prstGeom prst="rect">
            <a:avLst/>
          </a:prstGeom>
          <a:solidFill>
            <a:srgbClr val="3440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MS PGothic"/>
              </a:rPr>
              <a:t>Rujukan kepada pakar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MS PGothic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Content Placeholder 2"/>
          <p:cNvSpPr/>
          <p:nvPr/>
        </p:nvSpPr>
        <p:spPr>
          <a:xfrm>
            <a:off x="457200" y="1370160"/>
            <a:ext cx="8229600" cy="4800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uasi 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Tekanan darah yang tidak terkawal dengan tiga jenis ubat termasuk diuretik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Wanita yang hamil atau merancang untuk ham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Punc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CK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yang tidak diketah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F67A-7645-482E-ABFB-3967BDD20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5"/>
          <p:cNvSpPr/>
          <p:nvPr/>
        </p:nvSpPr>
        <p:spPr>
          <a:xfrm>
            <a:off x="4727160" y="6473880"/>
            <a:ext cx="40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laysian CPG on Management of CKD in Adults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4F9E-C439-4FD6-B6BF-DA771CE275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4" descr=""/>
          <p:cNvPicPr/>
          <p:nvPr/>
        </p:nvPicPr>
        <p:blipFill>
          <a:blip r:embed="rId1"/>
          <a:stretch/>
        </p:blipFill>
        <p:spPr>
          <a:xfrm>
            <a:off x="378000" y="66600"/>
            <a:ext cx="841212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21880" y="533160"/>
            <a:ext cx="7543800" cy="3105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ANGKA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914040" y="4495320"/>
            <a:ext cx="74516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APA YANG PERLU DIPANTAU DALAM </a:t>
            </a:r>
            <a:r>
              <a:rPr b="1" i="1" lang="en-US" sz="2800" spc="-1" strike="noStrike">
                <a:solidFill>
                  <a:srgbClr val="000000"/>
                </a:solidFill>
                <a:latin typeface="Calibri Light"/>
              </a:rPr>
              <a:t>CKD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BAGAIMANA UNTUK MEMANTAU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88A7-EFFB-43D1-AF36-DD72AA806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4572000" cy="27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TERIMA </a:t>
            </a:r>
            <a:endParaRPr b="0" lang="en-US" sz="8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KASIH</a:t>
            </a:r>
            <a:endParaRPr b="0" lang="en-US" sz="8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6B97-C9ED-4FD1-A920-4D5859B8F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"/>
          <p:cNvPicPr/>
          <p:nvPr/>
        </p:nvPicPr>
        <p:blipFill>
          <a:blip r:embed="rId1"/>
          <a:stretch/>
        </p:blipFill>
        <p:spPr>
          <a:xfrm>
            <a:off x="6019920" y="762120"/>
            <a:ext cx="23130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pa yang perlu dipantau dalam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CKD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294920"/>
            <a:ext cx="8153280" cy="48006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kanan darah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s proteinuria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hap diabetes (FBS dan HbA1c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gsi ginjal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erum creatinin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GF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rat badan d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MI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siko penyakit jantung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574560" indent="-234720">
              <a:lnSpc>
                <a:spcPct val="90000"/>
              </a:lnSpc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ipid profile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574560" indent="-234720">
              <a:lnSpc>
                <a:spcPct val="90000"/>
              </a:lnSpc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in-lain: ECG 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05C6-BDF4-4FA7-809B-F51352EB0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93B0-C986-4D6E-8668-0C79CE1CFA62}" type="slidenum">
              <a:rPr b="0" lang="ms-MY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592200" y="882720"/>
          <a:ext cx="8094600" cy="5137200"/>
        </p:xfrm>
        <a:graphic>
          <a:graphicData uri="http://schemas.openxmlformats.org/drawingml/2006/table">
            <a:tbl>
              <a:tblPr/>
              <a:tblGrid>
                <a:gridCol w="263520"/>
                <a:gridCol w="1886040"/>
                <a:gridCol w="895320"/>
                <a:gridCol w="1009440"/>
                <a:gridCol w="1009800"/>
                <a:gridCol w="1011240"/>
                <a:gridCol w="1009440"/>
                <a:gridCol w="1009800"/>
              </a:tblGrid>
              <a:tr h="171360">
                <a:tc gridSpan="2"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H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920">
                <a:tc gridSpan="2"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RIK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jian Dara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nal Prof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ea (mmol/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atinine (µmol/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GF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</a:t>
                      </a:r>
                      <a:r>
                        <a:rPr b="0" lang="en-GB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mmol/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walan Kencing Man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BS (4.4 - 6.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bA1c (&lt;6.5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les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blood cholesterol (&lt;4.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L (mmol/L) (&lt;2.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DL (mmol/L) (&gt;1.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G (mmol/L) (&lt;1.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emoglobin (g/d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cium (mmol/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organic phosphorus (mmol/L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jian Air Kenc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F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marL="343080" indent="-343080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e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marL="343080" indent="-343080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uantifika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marL="343080" indent="-343080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bumin creatinine ratio (mg/mmo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marL="343080" indent="-343080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bumin creatinine ratio (mg/mmo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marL="343080" indent="-343080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H urine prote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3" name="TextBox 2"/>
          <p:cNvSpPr/>
          <p:nvPr/>
        </p:nvSpPr>
        <p:spPr>
          <a:xfrm>
            <a:off x="1676520" y="32076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1800" spc="-1" strike="noStrike">
                <a:solidFill>
                  <a:srgbClr val="000000"/>
                </a:solidFill>
                <a:latin typeface="Arial"/>
              </a:rPr>
              <a:t>CARTA KAJ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Kemerosotan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CKD 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1609-B076-4648-BE52-B5CBB3354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228600" y="762120"/>
          <a:ext cx="8763120" cy="6067440"/>
        </p:xfrm>
        <a:graphic>
          <a:graphicData uri="http://schemas.openxmlformats.org/drawingml/2006/table">
            <a:tbl>
              <a:tblPr/>
              <a:tblGrid>
                <a:gridCol w="3352680"/>
                <a:gridCol w="2705400"/>
                <a:gridCol w="2705040"/>
              </a:tblGrid>
              <a:tr h="1920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44068"/>
                          </a:solidFill>
                          <a:latin typeface="Arial"/>
                          <a:ea typeface="Arial"/>
                        </a:rPr>
                        <a:t>Faktor risiko </a:t>
                      </a:r>
                      <a:r>
                        <a:rPr b="1" i="1" lang="en-US" sz="2400" spc="-1" strike="noStrike">
                          <a:solidFill>
                            <a:srgbClr val="344068"/>
                          </a:solidFill>
                          <a:latin typeface="Arial"/>
                          <a:ea typeface="Arial"/>
                        </a:rPr>
                        <a:t>CK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683c6"/>
                      </a:solidFill>
                    </a:lnL>
                    <a:lnR w="5760">
                      <a:solidFill>
                        <a:srgbClr val="2683c6"/>
                      </a:solidFill>
                    </a:lnR>
                    <a:lnT w="5760">
                      <a:solidFill>
                        <a:srgbClr val="2683c6"/>
                      </a:solidFill>
                    </a:lnT>
                    <a:lnB w="5760">
                      <a:solidFill>
                        <a:srgbClr val="2683c6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ktor mempengaruhi kemerosotan </a:t>
                      </a: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KD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683c6"/>
                      </a:solidFill>
                    </a:lnL>
                    <a:lnR w="5760">
                      <a:solidFill>
                        <a:srgbClr val="2683c6"/>
                      </a:solidFill>
                    </a:lnR>
                    <a:lnT w="5760">
                      <a:solidFill>
                        <a:srgbClr val="2683c6"/>
                      </a:solidFill>
                    </a:lnT>
                    <a:lnB w="5760">
                      <a:solidFill>
                        <a:srgbClr val="2683c6"/>
                      </a:solidFill>
                    </a:lnB>
                    <a:solidFill>
                      <a:srgbClr val="b26b0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omplika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683c6"/>
                      </a:solidFill>
                    </a:lnL>
                    <a:lnR w="5760">
                      <a:solidFill>
                        <a:srgbClr val="2683c6"/>
                      </a:solidFill>
                    </a:lnR>
                    <a:lnT w="5760">
                      <a:solidFill>
                        <a:srgbClr val="2683c6"/>
                      </a:solidFill>
                    </a:lnT>
                    <a:lnB w="5760">
                      <a:solidFill>
                        <a:srgbClr val="2683c6"/>
                      </a:solidFill>
                    </a:lnB>
                    <a:solidFill>
                      <a:srgbClr val="b26b02"/>
                    </a:solidFill>
                  </a:tcPr>
                </a:tc>
              </a:tr>
              <a:tr h="4146840">
                <a:tc>
                  <a:txBody>
                    <a:bodyPr lIns="90000" rIns="90000" tIns="91440" anchor="t">
                      <a:noAutofit/>
                    </a:bodyPr>
                    <a:p>
                      <a:pPr marL="227160" indent="-2271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abe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perten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mur &gt;65 tahu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jarah keluarga penyakit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K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in-lain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5568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esiti dan sindrom metabol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5568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ggunaan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SAIDs/PP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yang berpanjang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83c6"/>
                      </a:solidFill>
                    </a:lnL>
                    <a:lnR w="5760">
                      <a:solidFill>
                        <a:srgbClr val="2683c6"/>
                      </a:solidFill>
                    </a:lnR>
                    <a:lnT w="5760">
                      <a:solidFill>
                        <a:srgbClr val="2683c6"/>
                      </a:solidFill>
                    </a:lnT>
                    <a:lnB w="5760">
                      <a:solidFill>
                        <a:srgbClr val="2683c6"/>
                      </a:solidFill>
                    </a:lnB>
                    <a:noFill/>
                  </a:tcPr>
                </a:tc>
                <a:tc>
                  <a:txBody>
                    <a:bodyPr lIns="90000" rIns="90000" tIns="91440" anchor="t">
                      <a:noAutofit/>
                    </a:bodyPr>
                    <a:p>
                      <a:pPr marL="287280" indent="-2872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s proteinuria  yang lebih tingg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7280" indent="-2872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kanan darah yang lebih tingg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7280" indent="-2872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walan diabetes yang tidak memuask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7280" indent="-2872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rok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7280" indent="-2872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perlipida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7280" indent="-2872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bat nefro-toks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83c6"/>
                      </a:solidFill>
                    </a:lnL>
                    <a:lnR w="5760">
                      <a:solidFill>
                        <a:srgbClr val="2683c6"/>
                      </a:solidFill>
                    </a:lnR>
                    <a:lnT w="5760">
                      <a:solidFill>
                        <a:srgbClr val="2683c6"/>
                      </a:solidFill>
                    </a:lnT>
                    <a:lnB w="5760">
                      <a:solidFill>
                        <a:srgbClr val="2683c6"/>
                      </a:solidFill>
                    </a:lnB>
                    <a:noFill/>
                  </a:tcPr>
                </a:tc>
                <a:tc>
                  <a:txBody>
                    <a:bodyPr lIns="90000" rIns="90000" tIns="91440" anchor="t">
                      <a:noAutofit/>
                    </a:bodyPr>
                    <a:p>
                      <a:pPr marL="287280" indent="-2872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yakit kardiovasku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7280" indent="-2872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a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7280" indent="-2872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nal bone 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83c6"/>
                      </a:solidFill>
                    </a:lnL>
                    <a:lnR w="5760">
                      <a:solidFill>
                        <a:srgbClr val="2683c6"/>
                      </a:solidFill>
                    </a:lnR>
                    <a:lnT w="5760">
                      <a:solidFill>
                        <a:srgbClr val="2683c6"/>
                      </a:solidFill>
                    </a:lnT>
                    <a:lnB w="5760">
                      <a:solidFill>
                        <a:srgbClr val="2683c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7" name="Text Box 19"/>
          <p:cNvSpPr/>
          <p:nvPr/>
        </p:nvSpPr>
        <p:spPr>
          <a:xfrm>
            <a:off x="2971800" y="6479280"/>
            <a:ext cx="5943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Levey et al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Ann Intern Me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. 2003;139:137-147. USRDS. 1999sAnnual Data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8"/>
          <p:cNvSpPr/>
          <p:nvPr/>
        </p:nvSpPr>
        <p:spPr>
          <a:xfrm>
            <a:off x="3505320" y="1219320"/>
            <a:ext cx="2814480" cy="5268960"/>
          </a:xfrm>
          <a:prstGeom prst="ellipse">
            <a:avLst/>
          </a:prstGeom>
          <a:noFill/>
          <a:ln w="12600">
            <a:solidFill>
              <a:srgbClr val="4f81bd"/>
            </a:solidFill>
            <a:miter/>
          </a:ln>
          <a:effectLst>
            <a:outerShdw dist="25455" dir="27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066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aedah memperlahankan kemerosotan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CKD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447920"/>
            <a:ext cx="8153280" cy="45720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walan hipertensi yang optima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walan diabetes yang optima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ngurangan proteinuria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533520" indent="-17784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bat untuk mengurangkan proteinuria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723960" indent="-190440">
              <a:lnSpc>
                <a:spcPct val="100000"/>
              </a:lnSpc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CE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Captopril, Enalapril, Perindopril….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723960" indent="-190440">
              <a:lnSpc>
                <a:spcPct val="100000"/>
              </a:lnSpc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RB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Losartan, Irbesatan, Telmisartan ….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rhenti merokok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ngawalan protin dalam makanan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ak penggunaan agen nefro-toksik: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533520" indent="-17784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bat tahan sakit seperti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SAIDs/COX2 inhibito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533520" indent="-17784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ba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P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eperti Omeprazole, Pantoprazol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533520" indent="-17784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bat tradisional dan herb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4F3F-F7FB-466D-8759-AE265D551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itle 1"/>
          <p:cNvSpPr/>
          <p:nvPr/>
        </p:nvSpPr>
        <p:spPr>
          <a:xfrm>
            <a:off x="407880" y="426960"/>
            <a:ext cx="8229600" cy="792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asaran tekanan dara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3"/>
          <p:cNvSpPr/>
          <p:nvPr/>
        </p:nvSpPr>
        <p:spPr>
          <a:xfrm>
            <a:off x="3022560" y="621180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4"/>
          <p:cNvSpPr/>
          <p:nvPr/>
        </p:nvSpPr>
        <p:spPr>
          <a:xfrm>
            <a:off x="4377960" y="6427800"/>
            <a:ext cx="40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laysian CPG on Management of CKD in Adults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8"/>
          <p:cNvGrpSpPr/>
          <p:nvPr/>
        </p:nvGrpSpPr>
        <p:grpSpPr>
          <a:xfrm>
            <a:off x="444600" y="1143000"/>
            <a:ext cx="8318160" cy="5284440"/>
            <a:chOff x="444600" y="1143000"/>
            <a:chExt cx="8318160" cy="5284440"/>
          </a:xfrm>
        </p:grpSpPr>
        <p:sp>
          <p:nvSpPr>
            <p:cNvPr id="556" name="AutoShape 7"/>
            <p:cNvSpPr/>
            <p:nvPr/>
          </p:nvSpPr>
          <p:spPr>
            <a:xfrm>
              <a:off x="444600" y="1143000"/>
              <a:ext cx="8308440" cy="52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7" name="Picture 9" descr=""/>
            <p:cNvPicPr/>
            <p:nvPr/>
          </p:nvPicPr>
          <p:blipFill>
            <a:blip r:embed="rId1"/>
            <a:srcRect l="0" t="17411" r="0" b="21485"/>
            <a:stretch/>
          </p:blipFill>
          <p:spPr>
            <a:xfrm>
              <a:off x="444600" y="2064600"/>
              <a:ext cx="8318160" cy="323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8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9431-5F76-4A09-82BC-3289443AD57E}" type="slidenum">
              <a:rPr b="0" lang="ms-MY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Content Placeholder 2"/>
          <p:cNvSpPr/>
          <p:nvPr/>
        </p:nvSpPr>
        <p:spPr>
          <a:xfrm>
            <a:off x="457200" y="1523880"/>
            <a:ext cx="8229600" cy="441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HbA1c ≤7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Sasaran diubahsuai mengikut statu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co-morb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886B-644C-482B-BBE4-20C735CAD68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4"/>
          <p:cNvSpPr/>
          <p:nvPr/>
        </p:nvSpPr>
        <p:spPr>
          <a:xfrm>
            <a:off x="4574880" y="6475320"/>
            <a:ext cx="40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laysian CPG on Management of CKD in Adults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itle 5"/>
          <p:cNvSpPr/>
          <p:nvPr/>
        </p:nvSpPr>
        <p:spPr>
          <a:xfrm>
            <a:off x="457200" y="409680"/>
            <a:ext cx="8229600" cy="733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SimSun"/>
              </a:rPr>
              <a:t>Sasaran diabet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itle 1"/>
          <p:cNvSpPr/>
          <p:nvPr/>
        </p:nvSpPr>
        <p:spPr>
          <a:xfrm>
            <a:off x="457200" y="426960"/>
            <a:ext cx="8229600" cy="868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MS PGothic"/>
              </a:rPr>
              <a:t>Penggunaan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  <a:ea typeface="MS PGothic"/>
              </a:rPr>
              <a:t>ACEi/ARB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Content Placeholder 2"/>
          <p:cNvSpPr/>
          <p:nvPr/>
        </p:nvSpPr>
        <p:spPr>
          <a:xfrm>
            <a:off x="457200" y="1600200"/>
            <a:ext cx="8229600" cy="44197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jian telah menunjukkan bahawa kawalan tekanan darah yang optima boleh memperlahankan kemerosotan fungsi ginj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CE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n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ARB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beri faedah yang berlebihan kepada pesakit dengan proteinu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gsi ginjal perlu diperik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67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sebelum dan 1 - 2 minggu selepas memulak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ACEi/AR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67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apabila mengubah do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ACEi/A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2B2C-BBEE-4CE3-BDC7-2E722920D98C}" type="slidenum">
              <a:rPr b="0" lang="ms-MY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23:25:52Z</dcterms:created>
  <dc:creator>Dr. Ong Loke Meng</dc:creator>
  <dc:description/>
  <dc:language>en-US</dc:language>
  <cp:lastModifiedBy>Dr. Mohd. Aminuddin</cp:lastModifiedBy>
  <dcterms:modified xsi:type="dcterms:W3CDTF">2019-05-16T03:30:09Z</dcterms:modified>
  <cp:revision>238</cp:revision>
  <dc:subject/>
  <dc:title>MANAGEMENT OF  CHRONIC KIDNEY DISEASE IN ADULTS</dc:title>
</cp:coreProperties>
</file>